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9A3-DC6F-4570-AC20-9055B438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0F2-E634-4C71-9B20-8F0E1451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123-6321-453F-9E55-2673CD83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261-E197-4633-A05B-B9C91259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389-430C-4825-93AA-94B5D2A7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D30-913B-42E4-89A2-20D1956B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06C-673C-42A3-A724-AD891BB4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796-B1F9-49FD-ABFB-F30CA95E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DFB-3E37-4EA6-BB4A-90244153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81C-3645-4028-AB06-0C7C4C5C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808-6FC2-484C-918D-1B6448CF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0B4-FFF7-4454-BABE-B9124DD6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7F72-6B0D-49F4-91B3-C20D8895A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1-03T00:43:31Z</dcterms:modified>
  <cp:revision>28</cp:revision>
  <dc:subject/>
  <dc:title>Slide 1</dc:title>
</cp:coreProperties>
</file>